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7.png" ContentType="image/png"/>
  <Override PartName="/ppt/media/image26.png" ContentType="image/png"/>
  <Override PartName="/ppt/media/image3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whoosh.wav" ContentType="audio/x-wav"/>
  <Override PartName="/ppt/media/image28.png" ContentType="image/png"/>
  <Override PartName="/ppt/media/image30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camera.wav" ContentType="audio/x-wav"/>
  <Override PartName="/ppt/media/image22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439-6C12-4BAE-B24E-004285F162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F79-8726-4F4F-B4A2-6B2F0FAE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790-0BC1-4160-9BAA-C41B072E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845-8F81-4A9B-B03B-D6B99FE0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D8C-257B-4558-8325-0AE4DB0A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509-95E4-413C-9711-7BC74045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C72-5F82-4511-822B-6E6AFDF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407-7D84-469F-AA85-99C22C7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1D9-AF7F-42F3-9A00-BD490C58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BD7-A88C-4E20-A353-52BB2E8B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CEA-A8AB-4298-9591-96F496D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9D4-CB66-41C2-9485-B032451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EC4-8159-453E-8713-6D55AE2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858-9395-4F2D-B0ED-37B32DF7C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png"/><Relationship Id="rId15" Type="http://schemas.openxmlformats.org/officeDocument/2006/relationships/slide" Target="slide1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ng"/><Relationship Id="rId10" Type="http://schemas.openxmlformats.org/officeDocument/2006/relationships/slide" Target="slide1.xml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6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" Target="slide1.xm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" Target="slide1.xml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" Target="slide1.xml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ng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ng"/><Relationship Id="rId14" Type="http://schemas.openxmlformats.org/officeDocument/2006/relationships/slide" Target="slide1.xml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5335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f1d97"/>
                </a:solidFill>
                <a:latin typeface="Times New Roman"/>
                <a:ea typeface="隶书"/>
              </a:rPr>
              <a:t>相似三角形的性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209680"/>
            <a:ext cx="304920" cy="30492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3200400"/>
            <a:ext cx="304920" cy="30492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962520"/>
            <a:ext cx="304920" cy="30456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2071800"/>
            <a:ext cx="114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识别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452680"/>
            <a:ext cx="3124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048120"/>
            <a:ext cx="259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对应边上的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4510080"/>
            <a:ext cx="304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对应角的角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824280"/>
            <a:ext cx="2819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对应边上的中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94360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课堂练习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334120"/>
            <a:ext cx="304920" cy="30456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6019920"/>
            <a:ext cx="304920" cy="304560"/>
          </a:xfrm>
          <a:prstGeom prst="ellipse">
            <a:avLst/>
          </a:prstGeom>
          <a:solidFill>
            <a:srgbClr val="af1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51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周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905120"/>
            <a:ext cx="1295280" cy="1904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048120"/>
            <a:ext cx="106704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038480"/>
            <a:ext cx="1066680" cy="14479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809880"/>
            <a:ext cx="1904760" cy="609840"/>
          </a:xfrm>
          <a:prstGeom prst="ellipse">
            <a:avLst/>
          </a:prstGeom>
          <a:solidFill>
            <a:srgbClr val="ec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课后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7840" y="59436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51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4572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6338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归纳：相似三角形对应边上的中线比等于相似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95280" y="45720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相似三角形</a:t>
            </a:r>
            <a:r>
              <a:rPr b="1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</a:rPr>
              <a:t>对应边上的中线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有什么关系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85800" y="1828800"/>
            <a:ext cx="8522280" cy="2593440"/>
            <a:chOff x="685800" y="1828800"/>
            <a:chExt cx="8522280" cy="2593440"/>
          </a:xfrm>
        </p:grpSpPr>
        <p:sp>
          <p:nvSpPr>
            <p:cNvPr id="346" name=""/>
            <p:cNvSpPr/>
            <p:nvPr/>
          </p:nvSpPr>
          <p:spPr>
            <a:xfrm>
              <a:off x="1674000" y="2057400"/>
              <a:ext cx="38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右图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中线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7" name=""/>
            <p:cNvGraphicFramePr/>
            <p:nvPr/>
          </p:nvGraphicFramePr>
          <p:xfrm>
            <a:off x="6934320" y="2057400"/>
            <a:ext cx="1904760" cy="198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34320" y="2057400"/>
                      <a:ext cx="190476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9" name=""/>
            <p:cNvSpPr/>
            <p:nvPr/>
          </p:nvSpPr>
          <p:spPr>
            <a:xfrm>
              <a:off x="685800" y="243828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把三角形扩大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倍后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B′C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 E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′C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中线。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B′C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相似比为多少？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 E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比是多少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705720" y="3200400"/>
              <a:ext cx="1600200" cy="1221840"/>
              <a:chOff x="6705720" y="3200400"/>
              <a:chExt cx="1600200" cy="1221840"/>
            </a:xfrm>
          </p:grpSpPr>
          <p:sp>
            <p:nvSpPr>
              <p:cNvPr id="351" name=""/>
              <p:cNvSpPr/>
              <p:nvPr/>
            </p:nvSpPr>
            <p:spPr>
              <a:xfrm>
                <a:off x="6934320" y="4038480"/>
                <a:ext cx="990360" cy="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934320" y="3504960"/>
                <a:ext cx="761760" cy="53316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391520" y="3505320"/>
                <a:ext cx="30456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96080" y="3505320"/>
                <a:ext cx="228600" cy="53316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20120" y="3200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05720" y="3886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48720" y="3886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40680" y="39625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Times New Roman"/>
                  </a:rPr>
                  <a:t>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588720" y="1828800"/>
              <a:ext cx="2619360" cy="1602720"/>
              <a:chOff x="6588720" y="1828800"/>
              <a:chExt cx="2619360" cy="1602720"/>
            </a:xfrm>
          </p:grpSpPr>
          <p:sp>
            <p:nvSpPr>
              <p:cNvPr id="360" name=""/>
              <p:cNvSpPr/>
              <p:nvPr/>
            </p:nvSpPr>
            <p:spPr>
              <a:xfrm>
                <a:off x="6934320" y="3048120"/>
                <a:ext cx="1904760" cy="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934320" y="2057400"/>
                <a:ext cx="1447560" cy="99072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81880" y="2057400"/>
                <a:ext cx="457200" cy="99072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848360" y="2057400"/>
                <a:ext cx="53316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546400" y="1828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88720" y="28954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722440" y="297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07680" y="297180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Times New Roman"/>
                  </a:rPr>
                  <a:t>E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1723680" y="5943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E C ∽△A′E′C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14400" y="4300560"/>
            <a:ext cx="8229600" cy="1819440"/>
            <a:chOff x="914400" y="4300560"/>
            <a:chExt cx="8229600" cy="1819440"/>
          </a:xfrm>
        </p:grpSpPr>
        <p:sp>
          <p:nvSpPr>
            <p:cNvPr id="370" name=""/>
            <p:cNvSpPr/>
            <p:nvPr/>
          </p:nvSpPr>
          <p:spPr>
            <a:xfrm>
              <a:off x="914400" y="4300560"/>
              <a:ext cx="48769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右图两个相似三角形相似比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对应边上的中线的比是多少呢？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说说你判断的理由是什么？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5715000" y="4910400"/>
            <a:ext cx="1238400" cy="110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4910400"/>
                      <a:ext cx="12384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7039080" y="4757760"/>
            <a:ext cx="2104920" cy="13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9080" y="4757760"/>
                      <a:ext cx="2104920" cy="13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75" name=""/>
          <p:cNvGraphicFramePr/>
          <p:nvPr/>
        </p:nvGraphicFramePr>
        <p:xfrm>
          <a:off x="2133720" y="5105520"/>
          <a:ext cx="94284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105520"/>
                    <a:ext cx="942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2700360" y="3933720"/>
          <a:ext cx="866880" cy="51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3933720"/>
                    <a:ext cx="8668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284720" y="3860640"/>
          <a:ext cx="1019160" cy="58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3860640"/>
                    <a:ext cx="10191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364000" y="3933720"/>
          <a:ext cx="486000" cy="47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4000" y="3933720"/>
                    <a:ext cx="486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8153280" y="6400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447920" y="533520"/>
            <a:ext cx="712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相似三角形</a:t>
            </a:r>
            <a:r>
              <a:rPr b="1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</a:rPr>
              <a:t>对应角的角平分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有什么关系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3520" y="6019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归纳：相似三角形对应角的角平分线之比等于相似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21337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04920" y="4191120"/>
            <a:ext cx="8839080" cy="1857240"/>
            <a:chOff x="304920" y="4191120"/>
            <a:chExt cx="8839080" cy="1857240"/>
          </a:xfrm>
        </p:grpSpPr>
        <p:sp>
          <p:nvSpPr>
            <p:cNvPr id="389" name=""/>
            <p:cNvSpPr/>
            <p:nvPr/>
          </p:nvSpPr>
          <p:spPr>
            <a:xfrm>
              <a:off x="304920" y="4191120"/>
              <a:ext cx="49528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右图两个相似三角形相似比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对应角的角平分线比是多少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说说你判断的理由是什么？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0" name=""/>
            <p:cNvGraphicFramePr/>
            <p:nvPr/>
          </p:nvGraphicFramePr>
          <p:xfrm>
            <a:off x="4952880" y="4876920"/>
            <a:ext cx="1724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4876920"/>
                      <a:ext cx="1724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"/>
            <p:cNvGraphicFramePr/>
            <p:nvPr/>
          </p:nvGraphicFramePr>
          <p:xfrm>
            <a:off x="6972480" y="4648320"/>
            <a:ext cx="2171520" cy="14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2480" y="4648320"/>
                      <a:ext cx="2171520" cy="14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4" name=""/>
          <p:cNvGraphicFramePr/>
          <p:nvPr/>
        </p:nvGraphicFramePr>
        <p:xfrm>
          <a:off x="4038480" y="4876920"/>
          <a:ext cx="9716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4876920"/>
                    <a:ext cx="971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655920" y="54864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F C ∽△A′F′C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674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57200" y="1752480"/>
            <a:ext cx="9067680" cy="2745720"/>
            <a:chOff x="457200" y="1752480"/>
            <a:chExt cx="9067680" cy="2745720"/>
          </a:xfrm>
        </p:grpSpPr>
        <p:sp>
          <p:nvSpPr>
            <p:cNvPr id="399" name=""/>
            <p:cNvSpPr/>
            <p:nvPr/>
          </p:nvSpPr>
          <p:spPr>
            <a:xfrm>
              <a:off x="533520" y="19810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右图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角平分线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200" y="2438280"/>
              <a:ext cx="579132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把三角形扩大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倍后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B′C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 F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∠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角平分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B′C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相似比为多少？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F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 F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比是多少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7"/>
            <a:stretch/>
          </p:blipFill>
          <p:spPr>
            <a:xfrm>
              <a:off x="6934320" y="2133720"/>
              <a:ext cx="1904760" cy="19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6631200" y="3200400"/>
              <a:ext cx="1598400" cy="1297800"/>
              <a:chOff x="6631200" y="3200400"/>
              <a:chExt cx="1598400" cy="1297800"/>
            </a:xfrm>
          </p:grpSpPr>
          <p:sp>
            <p:nvSpPr>
              <p:cNvPr id="403" name=""/>
              <p:cNvSpPr/>
              <p:nvPr/>
            </p:nvSpPr>
            <p:spPr>
              <a:xfrm flipH="1">
                <a:off x="6933960" y="3581280"/>
                <a:ext cx="533160" cy="5335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15200" y="3200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31200" y="3962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96080" y="4038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420320" y="3616560"/>
                <a:ext cx="475560" cy="5392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4114800"/>
                <a:ext cx="91440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429320" y="3654360"/>
                <a:ext cx="36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588720" y="1752480"/>
              <a:ext cx="2936160" cy="1755360"/>
              <a:chOff x="6588720" y="1752480"/>
              <a:chExt cx="2936160" cy="1755360"/>
            </a:xfrm>
          </p:grpSpPr>
          <p:sp>
            <p:nvSpPr>
              <p:cNvPr id="412" name=""/>
              <p:cNvSpPr/>
              <p:nvPr/>
            </p:nvSpPr>
            <p:spPr>
              <a:xfrm>
                <a:off x="7808040" y="1752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88720" y="297180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B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663040" y="3048120"/>
                <a:ext cx="86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C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807320" y="30481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F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6934320" y="2057040"/>
                <a:ext cx="990360" cy="106668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48720" y="2133720"/>
                <a:ext cx="990360" cy="9903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3124080"/>
                <a:ext cx="190476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880400" y="2132280"/>
                <a:ext cx="12600" cy="993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6248520" y="5562720"/>
            <a:ext cx="2666520" cy="380880"/>
            <a:chOff x="6248520" y="5562720"/>
            <a:chExt cx="2666520" cy="380880"/>
          </a:xfrm>
        </p:grpSpPr>
        <p:sp>
          <p:nvSpPr>
            <p:cNvPr id="421" name=""/>
            <p:cNvSpPr/>
            <p:nvPr/>
          </p:nvSpPr>
          <p:spPr>
            <a:xfrm flipH="1">
              <a:off x="6248520" y="5638680"/>
              <a:ext cx="3038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8610480" y="5562720"/>
              <a:ext cx="3045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994000" y="4794840"/>
            <a:ext cx="2700000" cy="567000"/>
            <a:chOff x="5994000" y="4794840"/>
            <a:chExt cx="2700000" cy="567000"/>
          </a:xfrm>
        </p:grpSpPr>
        <p:sp>
          <p:nvSpPr>
            <p:cNvPr id="424" name=""/>
            <p:cNvSpPr/>
            <p:nvPr/>
          </p:nvSpPr>
          <p:spPr>
            <a:xfrm flipH="1" rot="14445000">
              <a:off x="6048720" y="5001840"/>
              <a:ext cx="3045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4445000">
              <a:off x="8334720" y="4848840"/>
              <a:ext cx="3034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3048120" y="3581280"/>
          <a:ext cx="714240" cy="60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3581280"/>
                    <a:ext cx="7142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815328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0" y="3657600"/>
          <a:ext cx="838080" cy="50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657600"/>
                    <a:ext cx="838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410080" y="3733920"/>
          <a:ext cx="38124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3733920"/>
                    <a:ext cx="3812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14400" y="59364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  </a:t>
            </a:r>
            <a:r>
              <a:rPr b="1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</a:rPr>
              <a:t>相似三角形的周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                 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有什么关系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172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归纳：相似三角形的周长比等于相似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2120" y="2209680"/>
            <a:ext cx="8153280" cy="1371600"/>
            <a:chOff x="762120" y="2209680"/>
            <a:chExt cx="8153280" cy="1371600"/>
          </a:xfrm>
        </p:grpSpPr>
        <p:sp>
          <p:nvSpPr>
            <p:cNvPr id="436" name=""/>
            <p:cNvSpPr/>
            <p:nvPr/>
          </p:nvSpPr>
          <p:spPr>
            <a:xfrm>
              <a:off x="762120" y="2317680"/>
              <a:ext cx="419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右图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分别是边长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等边三角形，它们都相似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5029200" y="2209680"/>
              <a:ext cx="38862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1371600" y="361476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相似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周长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相似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周长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351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0" y="41292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0" y="466236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0" y="51958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52200" y="5653080"/>
            <a:ext cx="55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上面可以看出当相似比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周长比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5926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-657000" y="457200"/>
            <a:ext cx="1066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</a:t>
            </a:r>
            <a:r>
              <a:rPr b="1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</a:rPr>
              <a:t>相似三角形的面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                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有什么关系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280" y="35812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5943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：相似三角形的面积比等于相似比的平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09480" y="2133720"/>
            <a:ext cx="8305920" cy="1457640"/>
            <a:chOff x="609480" y="2133720"/>
            <a:chExt cx="8305920" cy="1457640"/>
          </a:xfrm>
        </p:grpSpPr>
        <p:sp>
          <p:nvSpPr>
            <p:cNvPr id="450" name=""/>
            <p:cNvSpPr/>
            <p:nvPr/>
          </p:nvSpPr>
          <p:spPr>
            <a:xfrm>
              <a:off x="609480" y="2209680"/>
              <a:ext cx="44960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右图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分别是边长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等边三角形，它们都相似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1"/>
            <a:stretch/>
          </p:blipFill>
          <p:spPr>
            <a:xfrm>
              <a:off x="5029200" y="2133720"/>
              <a:ext cx="38862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"/>
          <p:cNvSpPr/>
          <p:nvPr/>
        </p:nvSpPr>
        <p:spPr>
          <a:xfrm>
            <a:off x="1219320" y="365760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相似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面积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相似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与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面积比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4724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5334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上面可以看出当相似比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面积比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95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1532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522240" y="60948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课堂练习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198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两个相似三角形对应边比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: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相似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对应边上的高之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对应边上的中线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对应角的角平分线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505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两个相似三角形对应角的角平分线比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: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可直接得到对应边上的高之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对应边上的中线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14400" y="5334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边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边长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1905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0720" y="263700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48720" y="220500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48000" y="263700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640" y="411480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53240" y="373392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895480" y="6094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课堂练习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2286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两个相似三角形对应边比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相似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周长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面积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49528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94216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2666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2666880"/>
            <a:ext cx="12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9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04812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3048120"/>
            <a:ext cx="99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7400" y="350532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666880"/>
            <a:ext cx="106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43000" y="3429000"/>
            <a:ext cx="510552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正方形网格上有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个三角形相似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相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面积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099120" y="3505320"/>
          <a:ext cx="3044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9120" y="3505320"/>
                    <a:ext cx="3044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1440720" y="533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2600" y="534816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似比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95280" y="5867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面积比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773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6248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198108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把 一个三角形变成和它相似的三角形，则如果边长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那么面积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面积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那么边长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90920" y="76212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课堂练习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3657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77320" y="6324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6156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←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434340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: A′ C′=4: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周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周长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面积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52480" y="5181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0968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41360" y="68580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课堂练习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25909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57200" y="1981080"/>
            <a:ext cx="8153280" cy="4724640"/>
            <a:chOff x="457200" y="1981080"/>
            <a:chExt cx="8153280" cy="4724640"/>
          </a:xfrm>
        </p:grpSpPr>
        <p:sp>
          <p:nvSpPr>
            <p:cNvPr id="503" name=""/>
            <p:cNvSpPr/>
            <p:nvPr/>
          </p:nvSpPr>
          <p:spPr>
            <a:xfrm>
              <a:off x="457200" y="1981080"/>
              <a:ext cx="8153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已知，在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||BC, DE:BC=3:5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:DB=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)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面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梯形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面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3)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B 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面积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D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面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___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4" name=""/>
            <p:cNvGraphicFramePr/>
            <p:nvPr/>
          </p:nvGraphicFramePr>
          <p:xfrm>
            <a:off x="3124080" y="4724280"/>
            <a:ext cx="2705400" cy="19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4724280"/>
                      <a:ext cx="27054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6" name=""/>
          <p:cNvSpPr/>
          <p:nvPr/>
        </p:nvSpPr>
        <p:spPr>
          <a:xfrm>
            <a:off x="1927080" y="5326200"/>
            <a:ext cx="462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7732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6232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←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18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2940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: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01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85800" y="2133720"/>
            <a:ext cx="556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58920" y="1916280"/>
            <a:ext cx="6638760" cy="1542240"/>
            <a:chOff x="1258920" y="1916280"/>
            <a:chExt cx="6638760" cy="1542240"/>
          </a:xfrm>
        </p:grpSpPr>
        <p:sp>
          <p:nvSpPr>
            <p:cNvPr id="514" name=""/>
            <p:cNvSpPr/>
            <p:nvPr/>
          </p:nvSpPr>
          <p:spPr>
            <a:xfrm>
              <a:off x="1258920" y="1916280"/>
              <a:ext cx="3886200" cy="14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如图，已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∥B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D=3A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48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：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面积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49680" y="1992240"/>
            <a:ext cx="2448000" cy="146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49680" y="1992240"/>
                      <a:ext cx="2448000" cy="146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7" name=""/>
          <p:cNvSpPr/>
          <p:nvPr/>
        </p:nvSpPr>
        <p:spPr>
          <a:xfrm>
            <a:off x="3065040" y="76212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课堂练习</a:t>
            </a: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0" y="62485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←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7280" y="35733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00200" y="396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E=∠ABC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ED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99200" y="449568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 ∽△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4952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=3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5410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似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=AD:AB=1: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0920" y="595008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/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85520" y="4005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8600" y="3645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58600" y="4508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85520" y="49417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85520" y="53737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14240" y="6021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580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G∥B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，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=12cm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G=        cm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9280" y="476280"/>
            <a:ext cx="8964360" cy="2812680"/>
            <a:chOff x="179280" y="476280"/>
            <a:chExt cx="8964360" cy="2812680"/>
          </a:xfrm>
        </p:grpSpPr>
        <p:sp>
          <p:nvSpPr>
            <p:cNvPr id="534" name=""/>
            <p:cNvSpPr/>
            <p:nvPr/>
          </p:nvSpPr>
          <p:spPr>
            <a:xfrm>
              <a:off x="179280" y="476280"/>
              <a:ext cx="6883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如图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中，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DE∥FG∥BC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且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DE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FG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把△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面积三等分，若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C=12cm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FG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长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5" name=""/>
            <p:cNvGraphicFramePr/>
            <p:nvPr/>
          </p:nvGraphicFramePr>
          <p:xfrm>
            <a:off x="6692760" y="985680"/>
            <a:ext cx="2450880" cy="230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92760" y="985680"/>
                      <a:ext cx="2450880" cy="23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7" name=""/>
          <p:cNvSpPr/>
          <p:nvPr/>
        </p:nvSpPr>
        <p:spPr>
          <a:xfrm>
            <a:off x="609480" y="2747880"/>
            <a:ext cx="8153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80" y="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课堂练习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532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0920" y="21337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E∥FG∥B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4400" y="2852640"/>
            <a:ext cx="49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E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FG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9320" y="3357720"/>
            <a:ext cx="6392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DE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F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F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4240" y="4149720"/>
            <a:ext cx="52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把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面积三等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6000" y="4653000"/>
            <a:ext cx="504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DE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F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1:2: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900000" y="5300640"/>
            <a:ext cx="5616360" cy="581400"/>
            <a:chOff x="900000" y="5300640"/>
            <a:chExt cx="5616360" cy="581400"/>
          </a:xfrm>
        </p:grpSpPr>
        <p:graphicFrame>
          <p:nvGraphicFramePr>
            <p:cNvPr id="546" name=""/>
            <p:cNvGraphicFramePr/>
            <p:nvPr/>
          </p:nvGraphicFramePr>
          <p:xfrm>
            <a:off x="4331520" y="5376600"/>
            <a:ext cx="1581120" cy="30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31520" y="5376600"/>
                      <a:ext cx="15811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900000" y="5300640"/>
              <a:ext cx="56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D:AF:AB=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2843280" y="5805360"/>
          <a:ext cx="122724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5805360"/>
                    <a:ext cx="1227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3419640" y="6413400"/>
          <a:ext cx="1008000" cy="44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6413400"/>
                    <a:ext cx="1008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7010280" y="62485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←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1520" y="35002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66600" y="2997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1520" y="4797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1520" y="53737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25160" y="2205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1520" y="4221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6240" y="5877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25160" y="64008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6858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  <a:ea typeface="隶书"/>
              </a:rPr>
              <a:t>相似三角形的识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24960" y="2133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：相似三角形的识别方法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284720" y="2708280"/>
            <a:ext cx="1676160" cy="2257560"/>
            <a:chOff x="4284720" y="2708280"/>
            <a:chExt cx="1676160" cy="2257560"/>
          </a:xfrm>
        </p:grpSpPr>
        <p:graphicFrame>
          <p:nvGraphicFramePr>
            <p:cNvPr id="72" name=""/>
            <p:cNvGraphicFramePr/>
            <p:nvPr/>
          </p:nvGraphicFramePr>
          <p:xfrm>
            <a:off x="4284720" y="2708280"/>
            <a:ext cx="167616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4720" y="2708280"/>
                      <a:ext cx="167616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4360680" y="3927600"/>
            <a:ext cx="1524240" cy="103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60680" y="3927600"/>
                      <a:ext cx="1524240" cy="10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"/>
          <p:cNvGrpSpPr/>
          <p:nvPr/>
        </p:nvGrpSpPr>
        <p:grpSpPr>
          <a:xfrm>
            <a:off x="4491360" y="3573360"/>
            <a:ext cx="380160" cy="1371240"/>
            <a:chOff x="4491360" y="3573360"/>
            <a:chExt cx="380160" cy="1371240"/>
          </a:xfrm>
        </p:grpSpPr>
        <p:sp>
          <p:nvSpPr>
            <p:cNvPr id="77" name=""/>
            <p:cNvSpPr/>
            <p:nvPr/>
          </p:nvSpPr>
          <p:spPr>
            <a:xfrm>
              <a:off x="4491360" y="3573360"/>
              <a:ext cx="3038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66960" y="4640400"/>
              <a:ext cx="3045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364000" y="3500280"/>
            <a:ext cx="380160" cy="1523520"/>
            <a:chOff x="5364000" y="3500280"/>
            <a:chExt cx="380160" cy="1523520"/>
          </a:xfrm>
        </p:grpSpPr>
        <p:sp>
          <p:nvSpPr>
            <p:cNvPr id="80" name=""/>
            <p:cNvSpPr/>
            <p:nvPr/>
          </p:nvSpPr>
          <p:spPr>
            <a:xfrm flipH="1">
              <a:off x="5364000" y="4566960"/>
              <a:ext cx="303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440320" y="3500280"/>
              <a:ext cx="303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924360" y="537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二组对应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42920" y="2637000"/>
            <a:ext cx="1676160" cy="2333160"/>
            <a:chOff x="1042920" y="2637000"/>
            <a:chExt cx="1676160" cy="2333160"/>
          </a:xfrm>
        </p:grpSpPr>
        <p:graphicFrame>
          <p:nvGraphicFramePr>
            <p:cNvPr id="84" name=""/>
            <p:cNvGraphicFramePr/>
            <p:nvPr/>
          </p:nvGraphicFramePr>
          <p:xfrm>
            <a:off x="1042920" y="2637000"/>
            <a:ext cx="1676160" cy="118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42920" y="2637000"/>
                      <a:ext cx="1676160" cy="11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1042920" y="3932280"/>
            <a:ext cx="1523880" cy="103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932280"/>
                      <a:ext cx="1523880" cy="10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1403280" y="3213000"/>
            <a:ext cx="380880" cy="1371600"/>
            <a:chOff x="1403280" y="3213000"/>
            <a:chExt cx="380880" cy="1371600"/>
          </a:xfrm>
        </p:grpSpPr>
        <p:sp>
          <p:nvSpPr>
            <p:cNvPr id="89" name=""/>
            <p:cNvSpPr/>
            <p:nvPr/>
          </p:nvSpPr>
          <p:spPr>
            <a:xfrm>
              <a:off x="1555560" y="3213000"/>
              <a:ext cx="2286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3280" y="4431960"/>
              <a:ext cx="22860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979640" y="3141720"/>
            <a:ext cx="456840" cy="1523520"/>
            <a:chOff x="1979640" y="3141720"/>
            <a:chExt cx="456840" cy="1523520"/>
          </a:xfrm>
        </p:grpSpPr>
        <p:grpSp>
          <p:nvGrpSpPr>
            <p:cNvPr id="92" name=""/>
            <p:cNvGrpSpPr/>
            <p:nvPr/>
          </p:nvGrpSpPr>
          <p:grpSpPr>
            <a:xfrm>
              <a:off x="2131560" y="3141720"/>
              <a:ext cx="304920" cy="304920"/>
              <a:chOff x="2131560" y="3141720"/>
              <a:chExt cx="304920" cy="30492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2131560" y="3141720"/>
                <a:ext cx="2286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207880" y="3218040"/>
                <a:ext cx="2286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79640" y="4361040"/>
              <a:ext cx="304200" cy="304200"/>
              <a:chOff x="1979640" y="4361040"/>
              <a:chExt cx="304200" cy="304200"/>
            </a:xfrm>
          </p:grpSpPr>
          <p:sp>
            <p:nvSpPr>
              <p:cNvPr id="96" name=""/>
              <p:cNvSpPr/>
              <p:nvPr/>
            </p:nvSpPr>
            <p:spPr>
              <a:xfrm flipH="1">
                <a:off x="1979640" y="4361040"/>
                <a:ext cx="22824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055600" y="4437000"/>
                <a:ext cx="22824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1619280" y="3573360"/>
            <a:ext cx="304560" cy="1371600"/>
            <a:chOff x="1619280" y="3573360"/>
            <a:chExt cx="304560" cy="1371600"/>
          </a:xfrm>
        </p:grpSpPr>
        <p:grpSp>
          <p:nvGrpSpPr>
            <p:cNvPr id="99" name=""/>
            <p:cNvGrpSpPr/>
            <p:nvPr/>
          </p:nvGrpSpPr>
          <p:grpSpPr>
            <a:xfrm>
              <a:off x="1771560" y="3573360"/>
              <a:ext cx="152280" cy="228600"/>
              <a:chOff x="1771560" y="3573360"/>
              <a:chExt cx="152280" cy="228600"/>
            </a:xfrm>
          </p:grpSpPr>
          <p:sp>
            <p:nvSpPr>
              <p:cNvPr id="100" name=""/>
              <p:cNvSpPr/>
              <p:nvPr/>
            </p:nvSpPr>
            <p:spPr>
              <a:xfrm>
                <a:off x="1771560" y="357336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47880" y="357336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23840" y="357336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619280" y="4716360"/>
              <a:ext cx="152280" cy="228600"/>
              <a:chOff x="1619280" y="4716360"/>
              <a:chExt cx="152280" cy="228600"/>
            </a:xfrm>
          </p:grpSpPr>
          <p:sp>
            <p:nvSpPr>
              <p:cNvPr id="104" name=""/>
              <p:cNvSpPr/>
              <p:nvPr/>
            </p:nvSpPr>
            <p:spPr>
              <a:xfrm>
                <a:off x="1619280" y="471636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95600" y="471636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71560" y="471636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971640" y="5373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三组对应边成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00800" y="2590920"/>
            <a:ext cx="1676520" cy="2257200"/>
            <a:chOff x="6400800" y="2590920"/>
            <a:chExt cx="1676520" cy="2257200"/>
          </a:xfrm>
        </p:grpSpPr>
        <p:graphicFrame>
          <p:nvGraphicFramePr>
            <p:cNvPr id="109" name=""/>
            <p:cNvGraphicFramePr/>
            <p:nvPr/>
          </p:nvGraphicFramePr>
          <p:xfrm>
            <a:off x="6400800" y="2590920"/>
            <a:ext cx="1676520" cy="1185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00800" y="2590920"/>
                      <a:ext cx="167652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6400800" y="3809880"/>
            <a:ext cx="1523880" cy="103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00800" y="3809880"/>
                      <a:ext cx="1523880" cy="10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3" name=""/>
          <p:cNvGrpSpPr/>
          <p:nvPr/>
        </p:nvGrpSpPr>
        <p:grpSpPr>
          <a:xfrm>
            <a:off x="6858000" y="3200400"/>
            <a:ext cx="228600" cy="1295280"/>
            <a:chOff x="6858000" y="3200400"/>
            <a:chExt cx="228600" cy="1295280"/>
          </a:xfrm>
        </p:grpSpPr>
        <p:sp>
          <p:nvSpPr>
            <p:cNvPr id="114" name=""/>
            <p:cNvSpPr/>
            <p:nvPr/>
          </p:nvSpPr>
          <p:spPr>
            <a:xfrm>
              <a:off x="6858000" y="3200400"/>
              <a:ext cx="2286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4343400"/>
              <a:ext cx="2286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238880" y="3505320"/>
            <a:ext cx="228600" cy="1295280"/>
            <a:chOff x="7238880" y="3505320"/>
            <a:chExt cx="228600" cy="1295280"/>
          </a:xfrm>
        </p:grpSpPr>
        <p:grpSp>
          <p:nvGrpSpPr>
            <p:cNvPr id="117" name=""/>
            <p:cNvGrpSpPr/>
            <p:nvPr/>
          </p:nvGrpSpPr>
          <p:grpSpPr>
            <a:xfrm>
              <a:off x="7315200" y="3505320"/>
              <a:ext cx="152280" cy="228600"/>
              <a:chOff x="7315200" y="3505320"/>
              <a:chExt cx="152280" cy="228600"/>
            </a:xfrm>
          </p:grpSpPr>
          <p:sp>
            <p:nvSpPr>
              <p:cNvPr id="118" name=""/>
              <p:cNvSpPr/>
              <p:nvPr/>
            </p:nvSpPr>
            <p:spPr>
              <a:xfrm>
                <a:off x="7315200" y="350532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1520" y="350532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67480" y="350532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238880" y="4572000"/>
              <a:ext cx="152280" cy="228600"/>
              <a:chOff x="7238880" y="4572000"/>
              <a:chExt cx="152280" cy="228600"/>
            </a:xfrm>
          </p:grpSpPr>
          <p:sp>
            <p:nvSpPr>
              <p:cNvPr id="122" name=""/>
              <p:cNvSpPr/>
              <p:nvPr/>
            </p:nvSpPr>
            <p:spPr>
              <a:xfrm>
                <a:off x="7238880" y="457200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15200" y="457200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91160" y="4572000"/>
                <a:ext cx="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629400" y="3429000"/>
            <a:ext cx="380520" cy="1371600"/>
            <a:chOff x="6629400" y="3429000"/>
            <a:chExt cx="380520" cy="1371600"/>
          </a:xfrm>
        </p:grpSpPr>
        <p:sp>
          <p:nvSpPr>
            <p:cNvPr id="126" name=""/>
            <p:cNvSpPr/>
            <p:nvPr/>
          </p:nvSpPr>
          <p:spPr>
            <a:xfrm>
              <a:off x="6706080" y="3429000"/>
              <a:ext cx="3038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4495680"/>
              <a:ext cx="3045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248520" y="5334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二组对应边成比例，且夹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3" action="ppaction://hlinksldjump"/>
          </p:cNvPr>
          <p:cNvSpPr/>
          <p:nvPr/>
        </p:nvSpPr>
        <p:spPr>
          <a:xfrm>
            <a:off x="80010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124000" y="404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隶书"/>
              </a:rPr>
              <a:t>小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79280" y="1773360"/>
            <a:ext cx="2971800" cy="2895480"/>
            <a:chOff x="179280" y="1773360"/>
            <a:chExt cx="2971800" cy="2895480"/>
          </a:xfrm>
        </p:grpSpPr>
        <p:sp>
          <p:nvSpPr>
            <p:cNvPr id="564" name=""/>
            <p:cNvSpPr/>
            <p:nvPr/>
          </p:nvSpPr>
          <p:spPr>
            <a:xfrm>
              <a:off x="179280" y="29163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相似三角形的性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98800" y="1773360"/>
              <a:ext cx="152280" cy="2895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348000" y="1557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应角相等、对应边成比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2276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应高之比、对应中线之比、对应角平分线之比都等于相似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386064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长之比等于相似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3640" y="4797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积之比等于相似比的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平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9280" y="404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（你学到了什么呢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41"/>
          <p:cNvGrpSpPr/>
          <p:nvPr/>
        </p:nvGrpSpPr>
        <p:grpSpPr>
          <a:xfrm>
            <a:off x="6302880" y="1828800"/>
            <a:ext cx="2838960" cy="2571840"/>
            <a:chOff x="6302880" y="1828800"/>
            <a:chExt cx="2838960" cy="2571840"/>
          </a:xfrm>
        </p:grpSpPr>
        <p:sp>
          <p:nvSpPr>
            <p:cNvPr id="131" name="Freeform 14"/>
            <p:cNvSpPr/>
            <p:nvPr/>
          </p:nvSpPr>
          <p:spPr>
            <a:xfrm>
              <a:off x="6548400" y="2233800"/>
              <a:ext cx="2150280" cy="17467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7389000" y="3154680"/>
              <a:ext cx="110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820116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6302880" y="3803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8705160" y="3880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9"/>
            <p:cNvSpPr/>
            <p:nvPr/>
          </p:nvSpPr>
          <p:spPr>
            <a:xfrm>
              <a:off x="7021440" y="2893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8528040" y="2957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 flipH="1">
              <a:off x="6603120" y="2216880"/>
              <a:ext cx="1709640" cy="174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8313120" y="2216880"/>
              <a:ext cx="385920" cy="174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3"/>
            <p:cNvSpPr/>
            <p:nvPr/>
          </p:nvSpPr>
          <p:spPr>
            <a:xfrm flipH="1">
              <a:off x="6603120" y="3963600"/>
              <a:ext cx="2095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7413120" y="3145680"/>
              <a:ext cx="1127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Oval 61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3" descr="星08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4" descr="星08"/>
          <p:cNvPicPr/>
          <p:nvPr/>
        </p:nvPicPr>
        <p:blipFill>
          <a:blip r:embed="rId2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960" y="144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符号语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94280" y="1676520"/>
            <a:ext cx="3662280" cy="1800360"/>
            <a:chOff x="2294280" y="1676520"/>
            <a:chExt cx="3662280" cy="1800360"/>
          </a:xfrm>
        </p:grpSpPr>
        <p:sp>
          <p:nvSpPr>
            <p:cNvPr id="147" name=""/>
            <p:cNvSpPr/>
            <p:nvPr/>
          </p:nvSpPr>
          <p:spPr>
            <a:xfrm>
              <a:off x="2370240" y="167652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94280" y="281952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57040" y="1768320"/>
              <a:ext cx="153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//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3280" y="2895480"/>
              <a:ext cx="293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DE∽ △A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0"/>
          <p:cNvSpPr/>
          <p:nvPr/>
        </p:nvSpPr>
        <p:spPr>
          <a:xfrm>
            <a:off x="6289920" y="1523880"/>
            <a:ext cx="1471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0" y="379080"/>
            <a:ext cx="7878600" cy="727560"/>
          </a:xfrm>
          <a:prstGeom prst="rect">
            <a:avLst/>
          </a:prstGeom>
          <a:solidFill>
            <a:srgbClr val="e7ffff">
              <a:alpha val="50000"/>
            </a:srgbClr>
          </a:solidFill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理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行于三角形一边的直线和其他两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或延长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交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构成的三角形与原三角形相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45200" y="5334120"/>
            <a:ext cx="8398800" cy="725760"/>
            <a:chOff x="745200" y="5334120"/>
            <a:chExt cx="8398800" cy="725760"/>
          </a:xfrm>
        </p:grpSpPr>
        <p:sp>
          <p:nvSpPr>
            <p:cNvPr id="154" name=""/>
            <p:cNvSpPr/>
            <p:nvPr/>
          </p:nvSpPr>
          <p:spPr>
            <a:xfrm>
              <a:off x="745200" y="54784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"/>
            <p:cNvSpPr/>
            <p:nvPr/>
          </p:nvSpPr>
          <p:spPr>
            <a:xfrm>
              <a:off x="1066680" y="533412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= ∠A,∠B = ∠ADE,∠C = ∠AED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211760" y="3962520"/>
            <a:ext cx="4884120" cy="1422360"/>
            <a:chOff x="1211760" y="3962520"/>
            <a:chExt cx="4884120" cy="142236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133720" y="3962520"/>
                  <a:ext cx="396216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1211760" y="420696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0" y="2666880"/>
            <a:ext cx="990720" cy="2057400"/>
            <a:chOff x="0" y="2666880"/>
            <a:chExt cx="990720" cy="2057400"/>
          </a:xfrm>
        </p:grpSpPr>
        <p:sp>
          <p:nvSpPr>
            <p:cNvPr id="160" name=""/>
            <p:cNvSpPr/>
            <p:nvPr/>
          </p:nvSpPr>
          <p:spPr>
            <a:xfrm>
              <a:off x="0" y="2666880"/>
              <a:ext cx="990720" cy="2057400"/>
            </a:xfrm>
            <a:prstGeom prst="wedgeEllipseCallout">
              <a:avLst>
                <a:gd name="adj1" fmla="val 33171"/>
                <a:gd name="adj2" fmla="val 848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640" y="320940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结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61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3" descr="星08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4" descr="星08"/>
          <p:cNvPicPr/>
          <p:nvPr/>
        </p:nvPicPr>
        <p:blipFill>
          <a:blip r:embed="rId2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9"/>
          <p:cNvSpPr/>
          <p:nvPr/>
        </p:nvSpPr>
        <p:spPr>
          <a:xfrm>
            <a:off x="0" y="379080"/>
            <a:ext cx="7878600" cy="727560"/>
          </a:xfrm>
          <a:prstGeom prst="rect">
            <a:avLst/>
          </a:prstGeom>
          <a:solidFill>
            <a:srgbClr val="e7ffff">
              <a:alpha val="50000"/>
            </a:srgbClr>
          </a:solidFill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理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行于三角形一边的直线和其他两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或延长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交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构成的三角形与原三角形相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296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符号语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99000" y="2133720"/>
            <a:ext cx="3752640" cy="1800360"/>
            <a:chOff x="999000" y="2133720"/>
            <a:chExt cx="3752640" cy="1800360"/>
          </a:xfrm>
        </p:grpSpPr>
        <p:sp>
          <p:nvSpPr>
            <p:cNvPr id="168" name=""/>
            <p:cNvSpPr/>
            <p:nvPr/>
          </p:nvSpPr>
          <p:spPr>
            <a:xfrm>
              <a:off x="1074960" y="213372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9000" y="327672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61760" y="2225520"/>
              <a:ext cx="153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//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26920" y="3352680"/>
              <a:ext cx="30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E∽ △CO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1"/>
          <p:cNvSpPr/>
          <p:nvPr/>
        </p:nvSpPr>
        <p:spPr>
          <a:xfrm>
            <a:off x="4613400" y="1523880"/>
            <a:ext cx="1471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54"/>
          <p:cNvGrpSpPr/>
          <p:nvPr/>
        </p:nvGrpSpPr>
        <p:grpSpPr>
          <a:xfrm>
            <a:off x="5183280" y="1600200"/>
            <a:ext cx="3720240" cy="2886840"/>
            <a:chOff x="5183280" y="1600200"/>
            <a:chExt cx="3720240" cy="2886840"/>
          </a:xfrm>
        </p:grpSpPr>
        <p:sp>
          <p:nvSpPr>
            <p:cNvPr id="174" name="Freeform 27"/>
            <p:cNvSpPr/>
            <p:nvPr/>
          </p:nvSpPr>
          <p:spPr>
            <a:xfrm>
              <a:off x="5272200" y="2558880"/>
              <a:ext cx="3114720" cy="1314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28"/>
            <p:cNvSpPr/>
            <p:nvPr/>
          </p:nvSpPr>
          <p:spPr>
            <a:xfrm rot="10800000">
              <a:off x="6481440" y="1892160"/>
              <a:ext cx="1600200" cy="6667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3"/>
            <p:cNvGrpSpPr/>
            <p:nvPr/>
          </p:nvGrpSpPr>
          <p:grpSpPr>
            <a:xfrm>
              <a:off x="5183280" y="1600200"/>
              <a:ext cx="3720240" cy="2886840"/>
              <a:chOff x="5183280" y="1600200"/>
              <a:chExt cx="3720240" cy="2886840"/>
            </a:xfrm>
          </p:grpSpPr>
          <p:sp>
            <p:nvSpPr>
              <p:cNvPr id="177" name="Text Box 29"/>
              <p:cNvSpPr/>
              <p:nvPr/>
            </p:nvSpPr>
            <p:spPr>
              <a:xfrm>
                <a:off x="6738480" y="4027320"/>
                <a:ext cx="102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（图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30"/>
              <p:cNvSpPr/>
              <p:nvPr/>
            </p:nvSpPr>
            <p:spPr>
              <a:xfrm>
                <a:off x="6174360" y="1600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31"/>
              <p:cNvSpPr/>
              <p:nvPr/>
            </p:nvSpPr>
            <p:spPr>
              <a:xfrm>
                <a:off x="8079120" y="1676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32"/>
              <p:cNvSpPr/>
              <p:nvPr/>
            </p:nvSpPr>
            <p:spPr>
              <a:xfrm>
                <a:off x="7164000" y="23619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33"/>
              <p:cNvSpPr/>
              <p:nvPr/>
            </p:nvSpPr>
            <p:spPr>
              <a:xfrm>
                <a:off x="5183280" y="3886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4"/>
              <p:cNvSpPr/>
              <p:nvPr/>
            </p:nvSpPr>
            <p:spPr>
              <a:xfrm>
                <a:off x="8503200" y="3854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Line 35"/>
            <p:cNvSpPr/>
            <p:nvPr/>
          </p:nvSpPr>
          <p:spPr>
            <a:xfrm>
              <a:off x="6500880" y="1904760"/>
              <a:ext cx="150012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6"/>
            <p:cNvSpPr/>
            <p:nvPr/>
          </p:nvSpPr>
          <p:spPr>
            <a:xfrm flipH="1">
              <a:off x="5205240" y="1904760"/>
              <a:ext cx="2819520" cy="198144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7"/>
            <p:cNvSpPr/>
            <p:nvPr/>
          </p:nvSpPr>
          <p:spPr>
            <a:xfrm>
              <a:off x="5205240" y="3886200"/>
              <a:ext cx="320040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8"/>
            <p:cNvSpPr/>
            <p:nvPr/>
          </p:nvSpPr>
          <p:spPr>
            <a:xfrm flipH="1" flipV="1">
              <a:off x="6500520" y="1904760"/>
              <a:ext cx="1904760" cy="198144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45200" y="5715000"/>
            <a:ext cx="8398800" cy="725760"/>
            <a:chOff x="745200" y="5715000"/>
            <a:chExt cx="8398800" cy="725760"/>
          </a:xfrm>
        </p:grpSpPr>
        <p:sp>
          <p:nvSpPr>
            <p:cNvPr id="188" name=""/>
            <p:cNvSpPr/>
            <p:nvPr/>
          </p:nvSpPr>
          <p:spPr>
            <a:xfrm>
              <a:off x="745200" y="585936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3"/>
            <p:cNvSpPr/>
            <p:nvPr/>
          </p:nvSpPr>
          <p:spPr>
            <a:xfrm>
              <a:off x="1066680" y="571500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= ∠A,∠B = ∠ADE,∠C = ∠AED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075320" y="4267080"/>
            <a:ext cx="4884120" cy="1422360"/>
            <a:chOff x="1075320" y="4267080"/>
            <a:chExt cx="4884120" cy="142236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97280" y="4267080"/>
                  <a:ext cx="396216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1075320" y="451152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743200"/>
            <a:ext cx="990720" cy="2057400"/>
            <a:chOff x="0" y="2743200"/>
            <a:chExt cx="990720" cy="2057400"/>
          </a:xfrm>
        </p:grpSpPr>
        <p:sp>
          <p:nvSpPr>
            <p:cNvPr id="194" name=""/>
            <p:cNvSpPr/>
            <p:nvPr/>
          </p:nvSpPr>
          <p:spPr>
            <a:xfrm>
              <a:off x="0" y="2743200"/>
              <a:ext cx="990720" cy="2057400"/>
            </a:xfrm>
            <a:prstGeom prst="wedgeEllipseCallout">
              <a:avLst>
                <a:gd name="adj1" fmla="val 33171"/>
                <a:gd name="adj2" fmla="val 848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5640" y="328572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结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9500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ΔABC ∽ Δ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3284640"/>
            <a:ext cx="488808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0612"/>
                </a:solidFill>
                <a:latin typeface="Times New Roman"/>
              </a:rPr>
              <a:t>符号语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8520" y="611352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695920" y="3141720"/>
            <a:ext cx="3159720" cy="788760"/>
            <a:chOff x="5695920" y="3141720"/>
            <a:chExt cx="3159720" cy="788760"/>
          </a:xfrm>
        </p:grpSpPr>
        <p:sp>
          <p:nvSpPr>
            <p:cNvPr id="200" name=""/>
            <p:cNvSpPr/>
            <p:nvPr/>
          </p:nvSpPr>
          <p:spPr>
            <a:xfrm>
              <a:off x="5695920" y="314172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2240" y="334908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8000" y="5986440"/>
            <a:ext cx="3126600" cy="666720"/>
            <a:chOff x="4788000" y="5986440"/>
            <a:chExt cx="3126600" cy="666720"/>
          </a:xfrm>
        </p:grpSpPr>
        <p:sp>
          <p:nvSpPr>
            <p:cNvPr id="203" name=""/>
            <p:cNvSpPr/>
            <p:nvPr/>
          </p:nvSpPr>
          <p:spPr>
            <a:xfrm>
              <a:off x="4788000" y="6193440"/>
              <a:ext cx="6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8120" y="5986440"/>
              <a:ext cx="4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638200" y="598644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3040" y="3732120"/>
            <a:ext cx="3726000" cy="3149640"/>
            <a:chOff x="5333040" y="3732120"/>
            <a:chExt cx="3726000" cy="3149640"/>
          </a:xfrm>
        </p:grpSpPr>
        <p:sp>
          <p:nvSpPr>
            <p:cNvPr id="207" name=""/>
            <p:cNvSpPr/>
            <p:nvPr/>
          </p:nvSpPr>
          <p:spPr>
            <a:xfrm>
              <a:off x="5424480" y="3732120"/>
              <a:ext cx="1453680" cy="2560320"/>
            </a:xfrm>
            <a:prstGeom prst="triangle">
              <a:avLst>
                <a:gd name="adj" fmla="val 86718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7880" y="4322880"/>
              <a:ext cx="1016640" cy="1791360"/>
            </a:xfrm>
            <a:prstGeom prst="triangle">
              <a:avLst>
                <a:gd name="adj" fmla="val 86718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333040" y="5800320"/>
              <a:ext cx="2999160" cy="1081440"/>
              <a:chOff x="5333040" y="5800320"/>
              <a:chExt cx="2999160" cy="1081440"/>
            </a:xfrm>
          </p:grpSpPr>
          <p:sp>
            <p:nvSpPr>
              <p:cNvPr id="210" name=""/>
              <p:cNvSpPr/>
              <p:nvPr/>
            </p:nvSpPr>
            <p:spPr>
              <a:xfrm>
                <a:off x="5333040" y="5898600"/>
                <a:ext cx="545760" cy="98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71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71823"/>
                  </a:path>
                </a:pathLst>
              </a:cu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87160" y="5800320"/>
                <a:ext cx="545040" cy="9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84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84919"/>
                  </a:path>
                </a:pathLst>
              </a:cu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424480" y="3750480"/>
              <a:ext cx="1453680" cy="2560320"/>
            </a:xfrm>
            <a:prstGeom prst="triangle">
              <a:avLst>
                <a:gd name="adj" fmla="val 86718"/>
              </a:avLst>
            </a:prstGeom>
            <a:noFill/>
            <a:ln w="57240">
              <a:solidFill>
                <a:srgbClr val="ec0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77880" y="4322880"/>
              <a:ext cx="1016640" cy="1791360"/>
            </a:xfrm>
            <a:prstGeom prst="triangle">
              <a:avLst>
                <a:gd name="adj" fmla="val 86718"/>
              </a:avLst>
            </a:prstGeom>
            <a:noFill/>
            <a:ln w="57240">
              <a:solidFill>
                <a:srgbClr val="ec0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175440" y="3801240"/>
              <a:ext cx="2883600" cy="1359360"/>
              <a:chOff x="6175440" y="3801240"/>
              <a:chExt cx="2883600" cy="1359360"/>
            </a:xfrm>
          </p:grpSpPr>
          <p:sp>
            <p:nvSpPr>
              <p:cNvPr id="215" name=""/>
              <p:cNvSpPr/>
              <p:nvPr/>
            </p:nvSpPr>
            <p:spPr>
              <a:xfrm rot="8179200">
                <a:off x="6294600" y="3899880"/>
                <a:ext cx="506160" cy="54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 rot="19116600">
                <a:off x="8386920" y="4366080"/>
                <a:ext cx="544680" cy="58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516" y="659"/>
                    </a:moveTo>
                    <a:arcTo wR="10800" hR="10800" stAng="-4192592" swAng="41925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516" y="659"/>
                    </a:moveTo>
                    <a:arcTo wR="10800" hR="10800" stAng="-4192592" swAng="4192592"/>
                  </a:path>
                </a:pathLst>
              </a:cu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 rot="19116600">
                <a:off x="8386920" y="4464720"/>
                <a:ext cx="544680" cy="58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516" y="659"/>
                    </a:moveTo>
                    <a:arcTo wR="10800" hR="10800" stAng="-4192592" swAng="41925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516" y="659"/>
                    </a:moveTo>
                    <a:arcTo wR="10800" hR="10800" stAng="-4192592" swAng="4192592"/>
                  </a:path>
                </a:pathLst>
              </a:cu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8179200">
                <a:off x="6317640" y="4085640"/>
                <a:ext cx="481320" cy="52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67" y="174"/>
                    </a:moveTo>
                    <a:arcTo wR="10800" hR="10800" stAng="-6018771" swAng="68844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67" y="174"/>
                    </a:moveTo>
                    <a:arcTo wR="10800" hR="10800" stAng="-6018771" swAng="6884421"/>
                  </a:path>
                </a:pathLst>
              </a:cu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35000" y="404640"/>
            <a:ext cx="900900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相似三角形判定定理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一个三角形的</a:t>
            </a:r>
            <a:r>
              <a:rPr b="1" lang="zh-CN" sz="3200" spc="-1" strike="noStrike">
                <a:solidFill>
                  <a:srgbClr val="ec0818"/>
                </a:solidFill>
                <a:latin typeface="黑体"/>
                <a:ea typeface="黑体"/>
              </a:rPr>
              <a:t>三组对应边的比相等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这两个三角形</a:t>
            </a:r>
            <a:r>
              <a:rPr b="1" lang="zh-CN" sz="3200" spc="-1" strike="noStrike">
                <a:solidFill>
                  <a:srgbClr val="262ed6"/>
                </a:solidFill>
                <a:latin typeface="黑体"/>
                <a:ea typeface="黑体"/>
              </a:rPr>
              <a:t>相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2492280"/>
            <a:ext cx="8129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单说成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对应边成比例</a:t>
            </a:r>
            <a:r>
              <a:rPr b="1" lang="zh-CN" sz="3200" spc="-1" strike="noStrike">
                <a:solidFill>
                  <a:srgbClr val="a80612"/>
                </a:solidFill>
                <a:latin typeface="Arial"/>
                <a:ea typeface="黑体"/>
              </a:rPr>
              <a:t>，两三角形</a:t>
            </a:r>
            <a:r>
              <a:rPr b="1" lang="zh-CN" sz="3200" spc="-1" strike="noStrike">
                <a:solidFill>
                  <a:srgbClr val="3a34b0"/>
                </a:solidFill>
                <a:latin typeface="Arial"/>
                <a:ea typeface="黑体"/>
              </a:rPr>
              <a:t>相似</a:t>
            </a:r>
            <a:r>
              <a:rPr b="1" lang="en-US" sz="3200" spc="-1" strike="noStrike">
                <a:solidFill>
                  <a:srgbClr val="a80612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8600" y="4221000"/>
            <a:ext cx="5171400" cy="1422360"/>
            <a:chOff x="408600" y="4221000"/>
            <a:chExt cx="5171400" cy="142236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043280" y="4221000"/>
                  <a:ext cx="453672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'B'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'C'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'C'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408600" y="446544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000" y="409896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∵ 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=∠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=∠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96720" y="522936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ΔABC ∽ Δ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3284640"/>
            <a:ext cx="488808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0612"/>
                </a:solidFill>
                <a:latin typeface="Times New Roman"/>
              </a:rPr>
              <a:t>符号语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788000" y="3141720"/>
            <a:ext cx="4323240" cy="3738600"/>
            <a:chOff x="4788000" y="3141720"/>
            <a:chExt cx="4323240" cy="3738600"/>
          </a:xfrm>
        </p:grpSpPr>
        <p:sp>
          <p:nvSpPr>
            <p:cNvPr id="228" name=""/>
            <p:cNvSpPr/>
            <p:nvPr/>
          </p:nvSpPr>
          <p:spPr>
            <a:xfrm>
              <a:off x="6877800" y="611424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696640" y="3141720"/>
              <a:ext cx="3159000" cy="788760"/>
              <a:chOff x="5696640" y="3141720"/>
              <a:chExt cx="3159000" cy="788760"/>
            </a:xfrm>
          </p:grpSpPr>
          <p:sp>
            <p:nvSpPr>
              <p:cNvPr id="230" name=""/>
              <p:cNvSpPr/>
              <p:nvPr/>
            </p:nvSpPr>
            <p:spPr>
              <a:xfrm>
                <a:off x="5696640" y="3141720"/>
                <a:ext cx="18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82240" y="3349080"/>
                <a:ext cx="47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88000" y="5986800"/>
              <a:ext cx="3126960" cy="666720"/>
              <a:chOff x="4788000" y="5986800"/>
              <a:chExt cx="3126960" cy="666720"/>
            </a:xfrm>
          </p:grpSpPr>
          <p:sp>
            <p:nvSpPr>
              <p:cNvPr id="233" name=""/>
              <p:cNvSpPr/>
              <p:nvPr/>
            </p:nvSpPr>
            <p:spPr>
              <a:xfrm>
                <a:off x="4788000" y="6193800"/>
                <a:ext cx="63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58480" y="5986800"/>
                <a:ext cx="456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'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8637840" y="59868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332680" y="3732480"/>
              <a:ext cx="3725640" cy="3147840"/>
              <a:chOff x="5332680" y="3732480"/>
              <a:chExt cx="3725640" cy="3147840"/>
            </a:xfrm>
          </p:grpSpPr>
          <p:sp>
            <p:nvSpPr>
              <p:cNvPr id="237" name=""/>
              <p:cNvSpPr/>
              <p:nvPr/>
            </p:nvSpPr>
            <p:spPr>
              <a:xfrm>
                <a:off x="5424120" y="3732480"/>
                <a:ext cx="1453320" cy="2559240"/>
              </a:xfrm>
              <a:prstGeom prst="triangle">
                <a:avLst>
                  <a:gd name="adj" fmla="val 86718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77520" y="4322880"/>
                <a:ext cx="1016280" cy="1790640"/>
              </a:xfrm>
              <a:prstGeom prst="triangle">
                <a:avLst>
                  <a:gd name="adj" fmla="val 86718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5332680" y="5799600"/>
                <a:ext cx="2998800" cy="1080720"/>
                <a:chOff x="5332680" y="5799600"/>
                <a:chExt cx="2998800" cy="10807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332680" y="5897880"/>
                  <a:ext cx="545760" cy="98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3718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371823"/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786440" y="5799600"/>
                  <a:ext cx="545040" cy="983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384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384919"/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5424120" y="3750840"/>
                <a:ext cx="1453320" cy="2559240"/>
              </a:xfrm>
              <a:prstGeom prst="triangle">
                <a:avLst>
                  <a:gd name="adj" fmla="val 86718"/>
                </a:avLst>
              </a:prstGeom>
              <a:noFill/>
              <a:ln w="57240">
                <a:solidFill>
                  <a:srgbClr val="ec08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77520" y="4322880"/>
                <a:ext cx="1016280" cy="1790640"/>
              </a:xfrm>
              <a:prstGeom prst="triangle">
                <a:avLst>
                  <a:gd name="adj" fmla="val 86718"/>
                </a:avLst>
              </a:prstGeom>
              <a:noFill/>
              <a:ln w="57240">
                <a:solidFill>
                  <a:srgbClr val="ec08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175080" y="3801240"/>
                <a:ext cx="2883240" cy="1358640"/>
                <a:chOff x="6175080" y="3801240"/>
                <a:chExt cx="2883240" cy="1358640"/>
              </a:xfrm>
            </p:grpSpPr>
            <p:sp>
              <p:nvSpPr>
                <p:cNvPr id="245" name=""/>
                <p:cNvSpPr/>
                <p:nvPr/>
              </p:nvSpPr>
              <p:spPr>
                <a:xfrm rot="8179200">
                  <a:off x="6294240" y="3899880"/>
                  <a:ext cx="506160" cy="54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 rot="19116600">
                  <a:off x="8386920" y="4366440"/>
                  <a:ext cx="544680" cy="58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516" y="659"/>
                      </a:moveTo>
                      <a:arcTo wR="10800" hR="10800" stAng="-4192592" swAng="41925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516" y="659"/>
                      </a:moveTo>
                      <a:arcTo wR="10800" hR="10800" stAng="-4192592" swAng="4192592"/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 rot="19116600">
                  <a:off x="8386920" y="4464720"/>
                  <a:ext cx="544680" cy="58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516" y="659"/>
                      </a:moveTo>
                      <a:arcTo wR="10800" hR="10800" stAng="-4192592" swAng="41925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516" y="659"/>
                      </a:moveTo>
                      <a:arcTo wR="10800" hR="10800" stAng="-4192592" swAng="4192592"/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8179200">
                  <a:off x="6317280" y="4085280"/>
                  <a:ext cx="481320" cy="52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867" y="174"/>
                      </a:moveTo>
                      <a:arcTo wR="10800" hR="10800" stAng="-6018771" swAng="68844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867" y="174"/>
                      </a:moveTo>
                      <a:arcTo wR="10800" hR="10800" stAng="-6018771" swAng="6884421"/>
                    </a:path>
                  </a:pathLst>
                </a:custGeom>
                <a:noFill/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9" name=""/>
          <p:cNvSpPr/>
          <p:nvPr/>
        </p:nvSpPr>
        <p:spPr>
          <a:xfrm>
            <a:off x="135000" y="404640"/>
            <a:ext cx="900900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相似三角形判定定理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一个三角形的</a:t>
            </a:r>
            <a:r>
              <a:rPr b="1" lang="zh-CN" sz="3200" spc="-1" strike="noStrike">
                <a:solidFill>
                  <a:srgbClr val="ec0818"/>
                </a:solidFill>
                <a:latin typeface="黑体"/>
                <a:ea typeface="黑体"/>
              </a:rPr>
              <a:t>两个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另一个三角形的</a:t>
            </a:r>
            <a:r>
              <a:rPr b="1" lang="zh-CN" sz="3200" spc="-1" strike="noStrike">
                <a:solidFill>
                  <a:srgbClr val="ec0818"/>
                </a:solidFill>
                <a:latin typeface="黑体"/>
                <a:ea typeface="黑体"/>
              </a:rPr>
              <a:t>两个角</a:t>
            </a:r>
            <a:r>
              <a:rPr b="1" lang="zh-CN" sz="3200" spc="-1" strike="noStrike">
                <a:solidFill>
                  <a:srgbClr val="262ed6"/>
                </a:solidFill>
                <a:latin typeface="黑体"/>
                <a:ea typeface="黑体"/>
              </a:rPr>
              <a:t>对应相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那么这两个三角形</a:t>
            </a:r>
            <a:r>
              <a:rPr b="1" lang="zh-CN" sz="3200" spc="-1" strike="noStrike">
                <a:solidFill>
                  <a:srgbClr val="262ed6"/>
                </a:solidFill>
                <a:latin typeface="黑体"/>
                <a:ea typeface="黑体"/>
              </a:rPr>
              <a:t>相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2492280"/>
            <a:ext cx="8129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单说成：</a:t>
            </a:r>
            <a:r>
              <a:rPr b="1" lang="zh-CN" sz="3200" spc="-1" strike="noStrike">
                <a:solidFill>
                  <a:srgbClr val="a80612"/>
                </a:solidFill>
                <a:latin typeface="Arial"/>
                <a:ea typeface="黑体"/>
              </a:rPr>
              <a:t>两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应</a:t>
            </a:r>
            <a:r>
              <a:rPr b="1" lang="zh-CN" sz="3200" spc="-1" strike="noStrike">
                <a:solidFill>
                  <a:srgbClr val="3a34b0"/>
                </a:solidFill>
                <a:latin typeface="Arial"/>
                <a:ea typeface="黑体"/>
              </a:rPr>
              <a:t>相等</a:t>
            </a:r>
            <a:r>
              <a:rPr b="1" lang="zh-CN" sz="3200" spc="-1" strike="noStrike">
                <a:solidFill>
                  <a:srgbClr val="a80612"/>
                </a:solidFill>
                <a:latin typeface="Arial"/>
                <a:ea typeface="黑体"/>
              </a:rPr>
              <a:t>，两三角形</a:t>
            </a:r>
            <a:r>
              <a:rPr b="1" lang="zh-CN" sz="3200" spc="-1" strike="noStrike">
                <a:solidFill>
                  <a:srgbClr val="3a34b0"/>
                </a:solidFill>
                <a:latin typeface="Arial"/>
                <a:ea typeface="黑体"/>
              </a:rPr>
              <a:t>相似</a:t>
            </a:r>
            <a:r>
              <a:rPr b="1" lang="en-US" sz="3200" spc="-1" strike="noStrike">
                <a:solidFill>
                  <a:srgbClr val="a80612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765000"/>
            <a:ext cx="8640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一个三角形的两条边和另一个三角形的两条边对应成比例，并且夹角相等，那么这两个三角形相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可以简单说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边对应成比例且夹角相等，两三角形相似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732720" y="3141720"/>
            <a:ext cx="2084400" cy="3539880"/>
            <a:chOff x="6732720" y="3141720"/>
            <a:chExt cx="2084400" cy="35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7064640" y="5122800"/>
              <a:ext cx="156528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6732720" y="3141720"/>
              <a:ext cx="20667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556840" y="4749840"/>
              <a:ext cx="2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63040" y="4751280"/>
              <a:ext cx="26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66240" y="3141720"/>
              <a:ext cx="2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50920" y="335772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数学语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8360" y="4149720"/>
                <a:ext cx="45352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∠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5280" y="5445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∴△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A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Times New Roman"/>
              </a:rPr>
              <a:t>´B´C´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∽△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8000" y="1890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三角形相似的判定定理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3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隶书"/>
              </a:rPr>
              <a:t>相似三角形的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836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：你知道相似三角形的特征是什么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71640" y="4191120"/>
            <a:ext cx="6191640" cy="1324800"/>
            <a:chOff x="971640" y="4191120"/>
            <a:chExt cx="6191640" cy="1324800"/>
          </a:xfrm>
        </p:grpSpPr>
        <p:sp>
          <p:nvSpPr>
            <p:cNvPr id="265" name=""/>
            <p:cNvSpPr/>
            <p:nvPr/>
          </p:nvSpPr>
          <p:spPr>
            <a:xfrm>
              <a:off x="971640" y="4376880"/>
              <a:ext cx="437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角：对应角相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050080" y="4191120"/>
              <a:ext cx="2113200" cy="1324800"/>
              <a:chOff x="5050080" y="4191120"/>
              <a:chExt cx="2113200" cy="1324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050080" y="4377240"/>
                <a:ext cx="99360" cy="1022400"/>
              </a:xfrm>
              <a:custGeom>
                <a:avLst/>
                <a:gdLst>
                  <a:gd name="textAreaLeft" fmla="*/ 63360 w 99360"/>
                  <a:gd name="textAreaRight" fmla="*/ 99720 w 99360"/>
                  <a:gd name="textAreaTop" fmla="*/ 26640 h 1022400"/>
                  <a:gd name="textAreaBottom" fmla="*/ 995760 h 1022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8" name=""/>
              <p:cNvGraphicFramePr/>
              <p:nvPr/>
            </p:nvGraphicFramePr>
            <p:xfrm>
              <a:off x="5447880" y="4191120"/>
              <a:ext cx="1503720" cy="441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447880" y="4191120"/>
                        <a:ext cx="1503720" cy="44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5447880" y="4655880"/>
              <a:ext cx="1715400" cy="441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447880" y="4655880"/>
                        <a:ext cx="1715400" cy="44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2" name=""/>
              <p:cNvGraphicFramePr/>
              <p:nvPr/>
            </p:nvGraphicFramePr>
            <p:xfrm>
              <a:off x="5348160" y="5027760"/>
              <a:ext cx="1802160" cy="488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48160" y="5027760"/>
                        <a:ext cx="1802160" cy="48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74" name=""/>
          <p:cNvSpPr/>
          <p:nvPr/>
        </p:nvSpPr>
        <p:spPr>
          <a:xfrm>
            <a:off x="990720" y="18763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234936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边：对应边成比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92360" y="3068640"/>
          <a:ext cx="2098440" cy="111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3068640"/>
                    <a:ext cx="20984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250920" y="5084640"/>
            <a:ext cx="48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：什么是相似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95280" y="5734080"/>
            <a:ext cx="6876720" cy="710640"/>
            <a:chOff x="395280" y="5734080"/>
            <a:chExt cx="6876720" cy="710640"/>
          </a:xfrm>
        </p:grpSpPr>
        <p:sp>
          <p:nvSpPr>
            <p:cNvPr id="280" name=""/>
            <p:cNvSpPr/>
            <p:nvPr/>
          </p:nvSpPr>
          <p:spPr>
            <a:xfrm>
              <a:off x="395280" y="5833440"/>
              <a:ext cx="479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相似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对应边的比值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1" name=""/>
            <p:cNvGraphicFramePr/>
            <p:nvPr/>
          </p:nvGraphicFramePr>
          <p:xfrm>
            <a:off x="4875840" y="5734080"/>
            <a:ext cx="2396160" cy="710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75840" y="5734080"/>
                      <a:ext cx="2396160" cy="71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3" name=""/>
          <p:cNvGraphicFramePr/>
          <p:nvPr/>
        </p:nvGraphicFramePr>
        <p:xfrm>
          <a:off x="6432480" y="1301760"/>
          <a:ext cx="2711520" cy="12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32480" y="1301760"/>
                    <a:ext cx="271152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443640" y="2708280"/>
          <a:ext cx="2378160" cy="130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2708280"/>
                    <a:ext cx="237816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50920" y="16970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右图，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 C ∽△A′B′C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5280" y="38088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相似三角形</a:t>
            </a:r>
            <a:r>
              <a:rPr b="1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</a:rPr>
              <a:t>对应边上的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有什么关系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956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6338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归纳：相似三角形对应边上的高之比等于相似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486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5486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88720" y="1828800"/>
            <a:ext cx="2443320" cy="1602720"/>
            <a:chOff x="6588720" y="1828800"/>
            <a:chExt cx="2443320" cy="1602720"/>
          </a:xfrm>
        </p:grpSpPr>
        <p:sp>
          <p:nvSpPr>
            <p:cNvPr id="295" name=""/>
            <p:cNvSpPr/>
            <p:nvPr/>
          </p:nvSpPr>
          <p:spPr>
            <a:xfrm>
              <a:off x="6781680" y="3048120"/>
              <a:ext cx="1905120" cy="0"/>
            </a:xfrm>
            <a:prstGeom prst="line">
              <a:avLst/>
            </a:prstGeom>
            <a:ln w="28440">
              <a:solidFill>
                <a:srgbClr val="f107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781680" y="2057400"/>
              <a:ext cx="1447920" cy="990720"/>
            </a:xfrm>
            <a:prstGeom prst="line">
              <a:avLst/>
            </a:prstGeom>
            <a:ln w="28440">
              <a:solidFill>
                <a:srgbClr val="f107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29600" y="2057400"/>
              <a:ext cx="457200" cy="990720"/>
            </a:xfrm>
            <a:prstGeom prst="line">
              <a:avLst/>
            </a:prstGeom>
            <a:ln w="28440">
              <a:solidFill>
                <a:srgbClr val="f107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29600" y="205740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41560" y="1828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88720" y="297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46400" y="297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724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D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271880" y="59436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D C ∽△A′D′C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676520" y="5105520"/>
          <a:ext cx="10666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105520"/>
                    <a:ext cx="1066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"/>
          <p:cNvGrpSpPr/>
          <p:nvPr/>
        </p:nvGrpSpPr>
        <p:grpSpPr>
          <a:xfrm>
            <a:off x="762120" y="1981080"/>
            <a:ext cx="7924680" cy="2441160"/>
            <a:chOff x="762120" y="1981080"/>
            <a:chExt cx="7924680" cy="2441160"/>
          </a:xfrm>
        </p:grpSpPr>
        <p:sp>
          <p:nvSpPr>
            <p:cNvPr id="307" name=""/>
            <p:cNvSpPr/>
            <p:nvPr/>
          </p:nvSpPr>
          <p:spPr>
            <a:xfrm>
              <a:off x="762120" y="2438280"/>
              <a:ext cx="594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利用方格把三角形扩大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倍，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B′C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并作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′C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 D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B′C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相似比为多少？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′ D′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什么关系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94160" y="1981080"/>
              <a:ext cx="33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右图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边上的高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6781680" y="2057400"/>
              <a:ext cx="1905120" cy="19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0" name=""/>
            <p:cNvGrpSpPr/>
            <p:nvPr/>
          </p:nvGrpSpPr>
          <p:grpSpPr>
            <a:xfrm>
              <a:off x="6629400" y="3124080"/>
              <a:ext cx="1752480" cy="1298160"/>
              <a:chOff x="6629400" y="3124080"/>
              <a:chExt cx="175248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7241040" y="3962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67480" y="3505320"/>
                <a:ext cx="304920" cy="533160"/>
              </a:xfrm>
              <a:prstGeom prst="line">
                <a:avLst/>
              </a:prstGeom>
              <a:ln w="3816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69640" y="3124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29400" y="3962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6960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781680" y="3504960"/>
                <a:ext cx="685800" cy="533160"/>
              </a:xfrm>
              <a:prstGeom prst="line">
                <a:avLst/>
              </a:prstGeom>
              <a:ln w="3816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81680" y="4038480"/>
                <a:ext cx="990720" cy="0"/>
              </a:xfrm>
              <a:prstGeom prst="line">
                <a:avLst/>
              </a:prstGeom>
              <a:ln w="28440">
                <a:solidFill>
                  <a:srgbClr val="f107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467480" y="350532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762120" y="4343400"/>
            <a:ext cx="8153280" cy="1752480"/>
            <a:chOff x="762120" y="4343400"/>
            <a:chExt cx="8153280" cy="1752480"/>
          </a:xfrm>
        </p:grpSpPr>
        <p:sp>
          <p:nvSpPr>
            <p:cNvPr id="320" name=""/>
            <p:cNvSpPr/>
            <p:nvPr/>
          </p:nvSpPr>
          <p:spPr>
            <a:xfrm>
              <a:off x="762120" y="4343400"/>
              <a:ext cx="47242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右图两个相似三角形相似比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则对应边上的高有什么关系呢？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说说你判断的理由是什么？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1" name=""/>
            <p:cNvGraphicFramePr/>
            <p:nvPr/>
          </p:nvGraphicFramePr>
          <p:xfrm>
            <a:off x="7162920" y="4648320"/>
            <a:ext cx="1752480" cy="1447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4648320"/>
                      <a:ext cx="1752480" cy="14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"/>
            <p:cNvGraphicFramePr/>
            <p:nvPr/>
          </p:nvGraphicFramePr>
          <p:xfrm>
            <a:off x="5257800" y="4572000"/>
            <a:ext cx="1676520" cy="135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57800" y="4572000"/>
                      <a:ext cx="167652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5" name=""/>
          <p:cNvGrpSpPr/>
          <p:nvPr/>
        </p:nvGrpSpPr>
        <p:grpSpPr>
          <a:xfrm>
            <a:off x="6172200" y="5410080"/>
            <a:ext cx="2286000" cy="304920"/>
            <a:chOff x="6172200" y="5410080"/>
            <a:chExt cx="2286000" cy="304920"/>
          </a:xfrm>
        </p:grpSpPr>
        <p:grpSp>
          <p:nvGrpSpPr>
            <p:cNvPr id="326" name=""/>
            <p:cNvGrpSpPr/>
            <p:nvPr/>
          </p:nvGrpSpPr>
          <p:grpSpPr>
            <a:xfrm>
              <a:off x="6172200" y="5410080"/>
              <a:ext cx="76320" cy="152280"/>
              <a:chOff x="6172200" y="5410080"/>
              <a:chExt cx="76320" cy="152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248520" y="541008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72200" y="5410080"/>
                <a:ext cx="76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8381880" y="5562720"/>
              <a:ext cx="76320" cy="152280"/>
              <a:chOff x="8381880" y="5562720"/>
              <a:chExt cx="76320" cy="152280"/>
            </a:xfrm>
          </p:grpSpPr>
          <p:sp>
            <p:nvSpPr>
              <p:cNvPr id="330" name=""/>
              <p:cNvSpPr/>
              <p:nvPr/>
            </p:nvSpPr>
            <p:spPr>
              <a:xfrm>
                <a:off x="8458200" y="556272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381880" y="5562720"/>
                <a:ext cx="76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6400800" y="5410080"/>
            <a:ext cx="2361600" cy="456840"/>
            <a:chOff x="6400800" y="5410080"/>
            <a:chExt cx="2361600" cy="456840"/>
          </a:xfrm>
        </p:grpSpPr>
        <p:sp>
          <p:nvSpPr>
            <p:cNvPr id="333" name=""/>
            <p:cNvSpPr/>
            <p:nvPr/>
          </p:nvSpPr>
          <p:spPr>
            <a:xfrm flipH="1">
              <a:off x="6400800" y="541008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610480" y="556272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2286000" y="3962520"/>
          <a:ext cx="79056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0" y="3962520"/>
                    <a:ext cx="7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962520" y="3886200"/>
          <a:ext cx="105732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2520" y="3886200"/>
                    <a:ext cx="1057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029200" y="3962520"/>
          <a:ext cx="552600" cy="33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9200" y="3962520"/>
                    <a:ext cx="552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815328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7:48:22Z</dcterms:created>
  <dc:creator>zqm</dc:creator>
  <dc:description/>
  <dc:language>en-US</dc:language>
  <cp:lastModifiedBy>USER</cp:lastModifiedBy>
  <dcterms:modified xsi:type="dcterms:W3CDTF">2011-06-07T13:44:58Z</dcterms:modified>
  <cp:revision>158</cp:revision>
  <dc:subject/>
  <dc:title>PowerPoint 演示文稿</dc:title>
</cp:coreProperties>
</file>